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FFB-7733-4F8C-8050-5CD0E11F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3A10-25AC-4CFA-AD91-A6FCACAD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9087-1E9E-4ED3-B2C4-BBFAA780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386-2B3D-4557-8790-09BD49CE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F55-5A5F-4293-87F5-6A9FDD41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FF0-9C73-416F-A450-65055328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E91-6DAA-4BF8-892C-406C9B96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6CD-8F45-4BC2-AFCB-60152CB6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4F6-3FDC-43A5-8962-3FA5D7A1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50A-56CF-41DB-9E26-96C72C3D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D44-3CC9-4DC0-ABF0-0D5C277E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301-B862-4B07-B3C4-401435A7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4265-25A9-4734-A401-61EA10103D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треты М.Ю.Лермон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738680" cy="5211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5867280" y="152388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 Ю. Лермонтов в сюртуке Тенгинского пехотного полка. Акварель К.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бунова. (18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ний прижизненный портрет Лермонт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РТР́́ЕТЫ Лермонт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838080" y="636480"/>
            <a:ext cx="7543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нашего времени дошло 15 прижизненных изображений Л. Это немало, если принять во внимание трагич. судьбу поэта — две ссылки на Кавказ, участие в боевых походах и его раннюю гибель. Ни один портрет Л., взятый отдельно, не дает исчерпывающего представления о внешнем облике, о глубине и многогранности внутр. мира гениального поэта. Но в совокупности созданные проф. художниками высокой квалифик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Ф. О. Будкин, П. Е. Заболотский, А. И. Клюндер, К. А. Горбу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вторы осн. прижизненной иконографии Л. — все впоследствии стали академиками живописи) эти портреты все же дают конкретное представление о наружности 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5562720" cy="5897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6248520" y="914400"/>
            <a:ext cx="243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рмонтов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-8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20-1822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ортрет Лермонтова, выполнен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известным художни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екоторые исследователи подлинность портрета ставят под сом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718160" cy="5288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943600" y="1905120"/>
            <a:ext cx="2971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писного или графического изображения Лермонтова М.Ю. в период его обучения в Москве нет. Большая часть портретов относится уже к последующему, петербургскому периоду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ни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кин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 по заказу Е.А. Арсеньев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070240" cy="6172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6095880" y="1143000"/>
            <a:ext cx="228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рмонтов в ментике лейб-гвардии Гусарского полка (1837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мотря на то, ч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лот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был профессиональным художником, портрет получился великолеп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5867280" cy="5445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6629400" y="1523880"/>
            <a:ext cx="198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портрет Лермонтова (1837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 самим поэтом на Кавказе. Портрет является одним из самых ценных для исследователей-лермонтове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98720" cy="4983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5715000" y="213372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И. Клюнд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38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самый первый портрет Клюндера (бумага, акварель), хранится в Институте русск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5257800" cy="5205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6248520" y="2057400"/>
            <a:ext cx="2361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Е. Заболотск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стично выполненный портрет. Картон, масло. Картина хранится в Институте русск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880920"/>
            <a:ext cx="5562720" cy="5245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6172200" y="1447920"/>
            <a:ext cx="2514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полчанина Д.П. Пал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енный профильный портрет поэта. Исключительная ценность этой работы в том, что однополчанин возможно наиболее точно передал внешность Лермонт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</dc:creator>
  <dc:description/>
  <dc:language>en-US</dc:language>
  <cp:lastModifiedBy>Макаров</cp:lastModifiedBy>
  <dcterms:modified xsi:type="dcterms:W3CDTF">2012-12-03T05:08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